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7E7-BE31-43ED-B018-7E9A38D9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331-DD0B-4F87-8A5E-8DE02618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9B6-31BF-4C22-B88D-7BFA227B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474-4049-4F6F-9E87-F5A1E4D3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38CA-9F03-445E-B771-8FC36A7F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9BB7-3DF1-4FF0-98ED-D3F0DBCC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9769-7F27-4C3F-82CA-7384ADF6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52DB-204D-491A-8591-B7EB4A02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0A3C-09FC-4536-B5E6-584587D2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E57B-9757-45C1-8675-EA01C955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0231-97FE-4DE1-93AC-701B9974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219-4716-4D54-AEEB-0E52D618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9F9B-3E09-4ACC-9DE8-B5D1A6D7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0BBD-43E6-4F8A-B329-4C230A9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0226-C0E2-4954-ACC2-31F83588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6401-EAEC-4C87-BFE5-15E149B9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160F-9E69-4A72-A92B-2FC6C4EF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4BA-E053-4204-B821-58A24B8F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5EA-E745-4E97-ACCC-EDCCE79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E34-8102-48D8-AFF2-E4E37547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D7E-6174-4DEC-80F2-234E094B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67E-08ED-4361-B0BE-AB3C68B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35E-7E01-4D2F-AE12-B3FA2BE3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7CB-AE56-4196-A6D9-77DE56A5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B0C6-928D-423A-BB08-61CF031B151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B583-0A8D-40FB-A327-C3D3229CD7C3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opt.info/south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pt.info/astr/bigmap.html" TargetMode="External"/><Relationship Id="rId2" Type="http://schemas.openxmlformats.org/officeDocument/2006/relationships/hyperlink" Target="http://www.oopt.info/astr/bigmap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Заповедники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России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5249"/>
                </a:solidFill>
                <a:latin typeface="Times New Roman"/>
              </a:rPr>
              <a:t>Астраханский заповедни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5" descr="перейти на карту ООПТ окру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572000"/>
            <a:ext cx="2895480" cy="167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8944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8" descr="Эмблема Астраханского заповедника"/>
          <p:cNvPicPr/>
          <p:nvPr/>
        </p:nvPicPr>
        <p:blipFill>
          <a:blip r:embed="rId3"/>
          <a:stretch/>
        </p:blipFill>
        <p:spPr>
          <a:xfrm>
            <a:off x="1447920" y="41148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3520" y="685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В Астраханском заповеднике зарегистрировано 256 видов птиц, из них 97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идов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на гнездовье, 134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а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в период миграции и зимовки и 25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ов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при залетах.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27 видов занесены в Красную книгу Росс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4" descr="x1"/>
          <p:cNvPicPr/>
          <p:nvPr/>
        </p:nvPicPr>
        <p:blipFill>
          <a:blip r:embed="rId1"/>
          <a:stretch/>
        </p:blipFill>
        <p:spPr>
          <a:xfrm>
            <a:off x="533520" y="2057400"/>
            <a:ext cx="406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x7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Посмотреть"/>
          <p:cNvPicPr/>
          <p:nvPr/>
        </p:nvPicPr>
        <p:blipFill>
          <a:blip r:embed="rId3"/>
          <a:stretch/>
        </p:blipFill>
        <p:spPr>
          <a:xfrm>
            <a:off x="5715000" y="4267080"/>
            <a:ext cx="259092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5b5249"/>
                </a:solidFill>
                <a:latin typeface="Arial Black"/>
              </a:rPr>
              <a:t>5    видов    рептилий,   в том числе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обитает редкая болотная черепах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11" descr="Посмотреть"/>
          <p:cNvPicPr/>
          <p:nvPr/>
        </p:nvPicPr>
        <p:blipFill>
          <a:blip r:embed="rId1"/>
          <a:stretch/>
        </p:blipFill>
        <p:spPr>
          <a:xfrm>
            <a:off x="1295280" y="1905120"/>
            <a:ext cx="7239240" cy="45050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19112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лго-Каспий - это уникальный рыбохозяйственный бассейн, в котором водятся все представители осетровых, являющихся нашим национальным богатством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гат этот край и другими ценными породам рыбы. Всего насчитывается  </a:t>
            </a: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61  вид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21" descr="x22"/>
          <p:cNvPicPr/>
          <p:nvPr/>
        </p:nvPicPr>
        <p:blipFill>
          <a:blip r:embed="rId1"/>
          <a:stretch/>
        </p:blipFill>
        <p:spPr>
          <a:xfrm>
            <a:off x="4191120" y="9144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едник расположен  в низовьях дельты Волги, на территории Камызякского и Володарского районов Астраханской обла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заповедника составля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7 917 га, в том числе 11 298 га - морская акватори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108240" y="2073240"/>
            <a:ext cx="2927520" cy="2836800"/>
            <a:chOff x="3108240" y="2073240"/>
            <a:chExt cx="2927520" cy="2836800"/>
          </a:xfrm>
        </p:grpSpPr>
        <p:sp>
          <p:nvSpPr>
            <p:cNvPr id="99" name="Rectangle 5"/>
            <p:cNvSpPr/>
            <p:nvPr/>
          </p:nvSpPr>
          <p:spPr>
            <a:xfrm>
              <a:off x="3108240" y="2073240"/>
              <a:ext cx="21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108240" y="2073240"/>
              <a:ext cx="2927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b0ae6a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1" name="Picture 9" descr="увеличить карту ООП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057400"/>
            <a:ext cx="4190760" cy="40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рвый советский заповедник — Астраханский — был учрежден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 апрел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919 г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ем общественной Ученой Комиссии при Астраханском университете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 личном участии Владимира Ильича Ленина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большую научную и природоохранительную работу в марте 1969 г. Астраханскому заповеднику присвоено имя В.И. Ленина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1971 г. за успехи, достигнутые в работе по изучению и сохранению природного комплекса дельты Волги, заповедник награжден орденом Трудового Красного Знамени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7" descr="240x161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1268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дельты Волги была глубоко нарушена в результате роста населения, освоения новых земель и безудержной хищнической эксплуатации многих природных богатств. Увеличение числа хуторов и выпас скота в местах их расположения привели к резкой деградации растительного покрова. Местами даже появились голые пески. Но особенно пострадали животные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ение и накопление природных ресурсов и генетических фондов устья Волги и побережья Каспия, а также исследование динамики дельтообразования и жизни ее ценозов в целях освоения природных производительных сил дельты и охраны мест гнездования и перелета водоплавающей птицы, рыбных перестилищ, рыбных ям, а также редких растений - лотоса, чилима и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7" descr="150x163"/>
          <p:cNvPicPr/>
          <p:nvPr/>
        </p:nvPicPr>
        <p:blipFill>
          <a:blip r:embed="rId1"/>
          <a:stretch/>
        </p:blipFill>
        <p:spPr>
          <a:xfrm>
            <a:off x="685800" y="1447920"/>
            <a:ext cx="2101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смотреть"/>
          <p:cNvPicPr/>
          <p:nvPr/>
        </p:nvPicPr>
        <p:blipFill>
          <a:blip r:embed="rId2"/>
          <a:stretch/>
        </p:blipFill>
        <p:spPr>
          <a:xfrm>
            <a:off x="1371600" y="4038480"/>
            <a:ext cx="312408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1979640" y="6308640"/>
            <a:ext cx="12193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826920" y="1557360"/>
            <a:ext cx="1028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е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тительный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отни рукавов великой русской реки Волги несут свои воды в Каспийское море. С высоты птичьего полета волжская дельта выглядит как царство островов, больших и малых, покрытых зеленью трав и кустарник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2" descr="x11"/>
          <p:cNvPicPr/>
          <p:nvPr/>
        </p:nvPicPr>
        <p:blipFill>
          <a:blip r:embed="rId1"/>
          <a:stretch/>
        </p:blipFill>
        <p:spPr>
          <a:xfrm>
            <a:off x="7621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28840" y="152352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тительность островов своеобразна: галерейные леса из белой ивы над бесчисленными протоками, сплошные заросли тростника высотой до 6 м создают непроходимую стену, скрывающую от любопытных глаз своих обитателе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Picture 5" descr="x12"/>
          <p:cNvPicPr/>
          <p:nvPr/>
        </p:nvPicPr>
        <p:blipFill>
          <a:blip r:embed="rId1"/>
          <a:stretch/>
        </p:blipFill>
        <p:spPr>
          <a:xfrm>
            <a:off x="83808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Arial Black"/>
              </a:rPr>
              <a:t>В составе флоры 293 вида раст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017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8" descr="x15"/>
          <p:cNvPicPr/>
          <p:nvPr/>
        </p:nvPicPr>
        <p:blipFill>
          <a:blip r:embed="rId2"/>
          <a:stretch/>
        </p:blipFill>
        <p:spPr>
          <a:xfrm>
            <a:off x="5181480" y="24382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3"/>
          <p:cNvSpPr txBox="1"/>
          <p:nvPr/>
        </p:nvSpPr>
        <p:spPr>
          <a:xfrm>
            <a:off x="3124080" y="5715000"/>
            <a:ext cx="33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69de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отос розовы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569de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3d7a"/>
                </a:solidFill>
                <a:latin typeface="Times New Roman"/>
              </a:rPr>
              <a:t>астраханские тюльпан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13" descr="Посмотреть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Животный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 заповеднике обитают обитают 27 видов млекопитающи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-1447920" y="5105520"/>
            <a:ext cx="803520" cy="26820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-1440" y="3346560"/>
            <a:ext cx="80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-3240" y="609480"/>
            <a:ext cx="9147240" cy="206280"/>
            <a:chOff x="-3240" y="609480"/>
            <a:chExt cx="9147240" cy="206280"/>
          </a:xfrm>
        </p:grpSpPr>
        <p:sp>
          <p:nvSpPr>
            <p:cNvPr id="129" name="Rectangle 5"/>
            <p:cNvSpPr/>
            <p:nvPr/>
          </p:nvSpPr>
          <p:spPr>
            <a:xfrm>
              <a:off x="58680" y="653760"/>
              <a:ext cx="9023400" cy="1252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3240" y="609480"/>
              <a:ext cx="9147240" cy="20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1" name="Picture 21" descr="Посмотреть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x9"/>
          <p:cNvPicPr/>
          <p:nvPr/>
        </p:nvPicPr>
        <p:blipFill>
          <a:blip r:embed="rId2"/>
          <a:stretch/>
        </p:blipFill>
        <p:spPr>
          <a:xfrm>
            <a:off x="5257800" y="266688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33:51Z</dcterms:created>
  <dc:creator>XXX</dc:creator>
  <dc:description/>
  <dc:language>en-US</dc:language>
  <cp:lastModifiedBy>Учитель</cp:lastModifiedBy>
  <dcterms:modified xsi:type="dcterms:W3CDTF">2013-05-06T16:59:13Z</dcterms:modified>
  <cp:revision>20</cp:revision>
  <dc:subject/>
  <dc:title>Презентация PowerPoint</dc:title>
</cp:coreProperties>
</file>